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232-7820-4C24-9D6B-0E96012BA6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综合课程开发室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本章的课程内容、要达到的能力和注意事项等进行总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结可以不仅限于一个章结束时使用，一段相对完整的内容讲授完就可以总结一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授课和胶片＋注释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只授课用的胶片，文字字体可以调整，但必须统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二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三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，四级文字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5C9-1641-4F4A-985A-E5CB3DAD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A37-3879-4EFB-9B39-5F8126F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14C-F96F-4AB3-AB51-91D9C451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6A6-70CE-4F2D-AA15-A986E9C8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73A-FA24-4FD1-948E-08ACAEE3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A39B-92BC-436E-8C3D-3818A659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D31-9511-46AA-8BED-6783E34D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FF5A-F351-4C8C-90D9-6C0EC9F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9C0-2991-416A-98CE-8168614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E7F0-47E6-4600-AA05-42D2840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EA8-352D-40AB-B66C-F6B796BA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085-EA3E-40D3-BD3E-D77FE6EB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667-58E9-499F-9917-DF326CC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4C6-8965-4C2D-A4C4-ED36C50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640A-16C9-43D1-BAC1-5EDF972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03F2-1038-46B3-8C1F-234C8AC0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194-A245-473F-86B3-B0D437E0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9B0-FF0D-4FE8-A57B-F972F4A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5DB-44B9-49B4-B54E-386CE7B6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6BB-E95F-4CD1-826F-D9361AC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12B-61BE-455F-A3D7-9B336ECC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73D-E09B-4566-9ACE-AACEDBE8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75F-3EB0-4F68-8E34-A49EE11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3A1-81AA-4969-8B4D-7BF1E4C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86F-2F6A-4CAA-97C0-587CC6540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0C29-6FC8-4CAA-B294-ABD714B2C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1447920"/>
            <a:ext cx="6156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 03 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常见接口与线缆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39720" y="5409720"/>
            <a:ext cx="4111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00M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2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采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以上双绞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段长度最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采用单模光纤，网段长度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采用多模光纤，网段长度最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快速以太网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EEE 802.3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000M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3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Base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采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以上双绞线，网段长度最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Base-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采用单模光纤，网段长度最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EEE 802.3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2.3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57600" y="1600200"/>
            <a:ext cx="4267080" cy="1498680"/>
            <a:chOff x="3657600" y="1600200"/>
            <a:chExt cx="4267080" cy="1498680"/>
          </a:xfrm>
        </p:grpSpPr>
        <p:sp>
          <p:nvSpPr>
            <p:cNvPr id="286" name=""/>
            <p:cNvSpPr/>
            <p:nvPr/>
          </p:nvSpPr>
          <p:spPr>
            <a:xfrm>
              <a:off x="3708360" y="22478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20960" y="30988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7920" y="1600200"/>
              <a:ext cx="248292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LAN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接口与线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二章  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WAN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接口与线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3657600" y="2666880"/>
              <a:ext cx="311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3657600" y="1828800"/>
              <a:ext cx="2970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A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窄带广域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blic Switched Telephone Net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公共交换电话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grated Services Digital Net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综合业务数字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gital Data Net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数字数据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公用分组交换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宽带广域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异步传输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D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同步数字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异步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&amp;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同步串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异步串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种异步串口：异步串口分为设置成异步方式的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异步串口和专用异步串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异步串口可以设为专线方式和拨号方式，常用的是拨号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步串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工作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种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外接多种类型电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多种链路层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层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ow interface se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可显示同步串口的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.2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规程的机械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61832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B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路由器端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DB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外接网络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工作在同步和异步两种方式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异步工作方式下最高传输速率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5200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步方式下最高传输速率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000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55640" y="3500280"/>
          <a:ext cx="8388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8388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.2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规程的机械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6033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B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路由器端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DB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外接网络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1280" y="2060640"/>
          <a:ext cx="813744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13744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.2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电气特性、传输速率和距离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899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路由器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.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A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合标准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平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±12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传输速率和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057320" y="3443400"/>
            <a:ext cx="6956280" cy="2803320"/>
            <a:chOff x="1057320" y="3443400"/>
            <a:chExt cx="6956280" cy="2803320"/>
          </a:xfrm>
        </p:grpSpPr>
        <p:sp>
          <p:nvSpPr>
            <p:cNvPr id="307" name=""/>
            <p:cNvSpPr/>
            <p:nvPr/>
          </p:nvSpPr>
          <p:spPr>
            <a:xfrm>
              <a:off x="1057320" y="3443400"/>
              <a:ext cx="2635200" cy="57780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40680" y="362412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波特率（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ps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7320" y="3443400"/>
              <a:ext cx="2635200" cy="577800"/>
            </a:xfrm>
            <a:custGeom>
              <a:avLst/>
              <a:gdLst/>
              <a:ahLst/>
              <a:rect l="l" t="t" r="r" b="b"/>
              <a:pathLst>
                <a:path w="3321" h="727">
                  <a:moveTo>
                    <a:pt x="0" y="727"/>
                  </a:moveTo>
                  <a:lnTo>
                    <a:pt x="3321" y="727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57320" y="3443400"/>
              <a:ext cx="144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92520" y="3443400"/>
              <a:ext cx="4321080" cy="57780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80680" y="3624120"/>
              <a:ext cx="253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最大传输距离（米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92520" y="3443400"/>
              <a:ext cx="4321080" cy="577800"/>
            </a:xfrm>
            <a:custGeom>
              <a:avLst/>
              <a:gdLst/>
              <a:ahLst/>
              <a:rect l="l" t="t" r="r" b="b"/>
              <a:pathLst>
                <a:path w="5443" h="727">
                  <a:moveTo>
                    <a:pt x="0" y="727"/>
                  </a:moveTo>
                  <a:lnTo>
                    <a:pt x="5443" y="727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92520" y="3443400"/>
              <a:ext cx="144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7320" y="4021200"/>
              <a:ext cx="263520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31280" y="4097160"/>
              <a:ext cx="32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7320" y="4021200"/>
              <a:ext cx="2635200" cy="318960"/>
            </a:xfrm>
            <a:custGeom>
              <a:avLst/>
              <a:gdLst/>
              <a:ahLst/>
              <a:rect l="l" t="t" r="r" b="b"/>
              <a:pathLst>
                <a:path w="3321" h="402">
                  <a:moveTo>
                    <a:pt x="0" y="402"/>
                  </a:moveTo>
                  <a:lnTo>
                    <a:pt x="3321" y="402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57320" y="402120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2520" y="4021200"/>
              <a:ext cx="432108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01400" y="409716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2520" y="4021200"/>
              <a:ext cx="4321080" cy="318960"/>
            </a:xfrm>
            <a:custGeom>
              <a:avLst/>
              <a:gdLst/>
              <a:ahLst/>
              <a:rect l="l" t="t" r="r" b="b"/>
              <a:pathLst>
                <a:path w="5443" h="402">
                  <a:moveTo>
                    <a:pt x="0" y="402"/>
                  </a:moveTo>
                  <a:lnTo>
                    <a:pt x="5443" y="402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2520" y="402120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57320" y="4340160"/>
              <a:ext cx="2635200" cy="3193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1280" y="4416480"/>
              <a:ext cx="32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4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57320" y="4340160"/>
              <a:ext cx="2635200" cy="319320"/>
            </a:xfrm>
            <a:custGeom>
              <a:avLst/>
              <a:gdLst/>
              <a:ahLst/>
              <a:rect l="l" t="t" r="r" b="b"/>
              <a:pathLst>
                <a:path w="3321" h="402">
                  <a:moveTo>
                    <a:pt x="0" y="402"/>
                  </a:moveTo>
                  <a:lnTo>
                    <a:pt x="3321" y="402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7320" y="4340160"/>
              <a:ext cx="144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92520" y="4340160"/>
              <a:ext cx="4321080" cy="3193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01400" y="441648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92520" y="4340160"/>
              <a:ext cx="4321080" cy="319320"/>
            </a:xfrm>
            <a:custGeom>
              <a:avLst/>
              <a:gdLst/>
              <a:ahLst/>
              <a:rect l="l" t="t" r="r" b="b"/>
              <a:pathLst>
                <a:path w="5443" h="402">
                  <a:moveTo>
                    <a:pt x="0" y="402"/>
                  </a:moveTo>
                  <a:lnTo>
                    <a:pt x="5443" y="402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92520" y="4340160"/>
              <a:ext cx="144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57320" y="4659480"/>
              <a:ext cx="263520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31280" y="4735440"/>
              <a:ext cx="32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9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57320" y="4659480"/>
              <a:ext cx="2635200" cy="318960"/>
            </a:xfrm>
            <a:custGeom>
              <a:avLst/>
              <a:gdLst/>
              <a:ahLst/>
              <a:rect l="l" t="t" r="r" b="b"/>
              <a:pathLst>
                <a:path w="3321" h="402">
                  <a:moveTo>
                    <a:pt x="0" y="402"/>
                  </a:moveTo>
                  <a:lnTo>
                    <a:pt x="3321" y="402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7320" y="465948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2520" y="4659480"/>
              <a:ext cx="432108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01400" y="473544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2520" y="4659480"/>
              <a:ext cx="4321080" cy="318960"/>
            </a:xfrm>
            <a:custGeom>
              <a:avLst/>
              <a:gdLst/>
              <a:ahLst/>
              <a:rect l="l" t="t" r="r" b="b"/>
              <a:pathLst>
                <a:path w="5443" h="402">
                  <a:moveTo>
                    <a:pt x="0" y="402"/>
                  </a:moveTo>
                  <a:lnTo>
                    <a:pt x="5443" y="402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92520" y="465948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57320" y="4978440"/>
              <a:ext cx="2635200" cy="3175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89160" y="505476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9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57320" y="4978440"/>
              <a:ext cx="2635200" cy="317520"/>
            </a:xfrm>
            <a:custGeom>
              <a:avLst/>
              <a:gdLst/>
              <a:ahLst/>
              <a:rect l="l" t="t" r="r" b="b"/>
              <a:pathLst>
                <a:path w="3321" h="401">
                  <a:moveTo>
                    <a:pt x="0" y="401"/>
                  </a:moveTo>
                  <a:lnTo>
                    <a:pt x="3321" y="401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57320" y="497844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92520" y="4978440"/>
              <a:ext cx="4321080" cy="3175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01400" y="505476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92520" y="4978440"/>
              <a:ext cx="4321080" cy="317520"/>
            </a:xfrm>
            <a:custGeom>
              <a:avLst/>
              <a:gdLst/>
              <a:ahLst/>
              <a:rect l="l" t="t" r="r" b="b"/>
              <a:pathLst>
                <a:path w="5443" h="401">
                  <a:moveTo>
                    <a:pt x="0" y="401"/>
                  </a:moveTo>
                  <a:lnTo>
                    <a:pt x="5443" y="401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2520" y="497844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57320" y="5295960"/>
              <a:ext cx="263520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9160" y="53737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8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7320" y="5295960"/>
              <a:ext cx="2635200" cy="318960"/>
            </a:xfrm>
            <a:custGeom>
              <a:avLst/>
              <a:gdLst/>
              <a:ahLst/>
              <a:rect l="l" t="t" r="r" b="b"/>
              <a:pathLst>
                <a:path w="3321" h="402">
                  <a:moveTo>
                    <a:pt x="0" y="402"/>
                  </a:moveTo>
                  <a:lnTo>
                    <a:pt x="3321" y="402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7320" y="529596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92520" y="5295960"/>
              <a:ext cx="4321080" cy="3189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01400" y="537372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2520" y="5295960"/>
              <a:ext cx="4321080" cy="318960"/>
            </a:xfrm>
            <a:custGeom>
              <a:avLst/>
              <a:gdLst/>
              <a:ahLst/>
              <a:rect l="l" t="t" r="r" b="b"/>
              <a:pathLst>
                <a:path w="5443" h="402">
                  <a:moveTo>
                    <a:pt x="0" y="402"/>
                  </a:moveTo>
                  <a:lnTo>
                    <a:pt x="5443" y="402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92520" y="529596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7320" y="5614920"/>
              <a:ext cx="2635200" cy="3193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89160" y="569268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7320" y="5614920"/>
              <a:ext cx="2635200" cy="319320"/>
            </a:xfrm>
            <a:custGeom>
              <a:avLst/>
              <a:gdLst/>
              <a:ahLst/>
              <a:rect l="l" t="t" r="r" b="b"/>
              <a:pathLst>
                <a:path w="3321" h="403">
                  <a:moveTo>
                    <a:pt x="0" y="403"/>
                  </a:moveTo>
                  <a:lnTo>
                    <a:pt x="3321" y="403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7320" y="5614920"/>
              <a:ext cx="144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92520" y="5614920"/>
              <a:ext cx="4321080" cy="3193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01400" y="569268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92520" y="5614920"/>
              <a:ext cx="4321080" cy="319320"/>
            </a:xfrm>
            <a:custGeom>
              <a:avLst/>
              <a:gdLst/>
              <a:ahLst/>
              <a:rect l="l" t="t" r="r" b="b"/>
              <a:pathLst>
                <a:path w="5443" h="403">
                  <a:moveTo>
                    <a:pt x="0" y="403"/>
                  </a:moveTo>
                  <a:lnTo>
                    <a:pt x="5443" y="403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92520" y="5614920"/>
              <a:ext cx="144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57320" y="5934240"/>
              <a:ext cx="2635200" cy="31248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45600" y="60120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15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57320" y="5934240"/>
              <a:ext cx="2635200" cy="312480"/>
            </a:xfrm>
            <a:custGeom>
              <a:avLst/>
              <a:gdLst/>
              <a:ahLst/>
              <a:rect l="l" t="t" r="r" b="b"/>
              <a:pathLst>
                <a:path w="3321" h="393">
                  <a:moveTo>
                    <a:pt x="0" y="393"/>
                  </a:moveTo>
                  <a:lnTo>
                    <a:pt x="3321" y="393"/>
                  </a:lnTo>
                  <a:lnTo>
                    <a:pt x="332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57320" y="5934240"/>
              <a:ext cx="144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92520" y="5934240"/>
              <a:ext cx="4321080" cy="31248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01400" y="6012000"/>
              <a:ext cx="16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92520" y="5934240"/>
              <a:ext cx="4321080" cy="312480"/>
            </a:xfrm>
            <a:custGeom>
              <a:avLst/>
              <a:gdLst/>
              <a:ahLst/>
              <a:rect l="l" t="t" r="r" b="b"/>
              <a:pathLst>
                <a:path w="5443" h="393">
                  <a:moveTo>
                    <a:pt x="0" y="393"/>
                  </a:moveTo>
                  <a:lnTo>
                    <a:pt x="5443" y="393"/>
                  </a:lnTo>
                  <a:lnTo>
                    <a:pt x="5443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92520" y="5934240"/>
              <a:ext cx="144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.3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规程的机械特性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559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B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外接网络端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DB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路由器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针型插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孔型插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11280" y="2997360"/>
          <a:ext cx="810108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97360"/>
                    <a:ext cx="8101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.3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电气特性、传输速率和距离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7612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信号遵从标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平标准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±12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与时钟遵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.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平标准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±0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步方式下最大传输速率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480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IA/TIA-V.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缆的速率和传输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415880" y="3297240"/>
            <a:ext cx="6094440" cy="2956680"/>
            <a:chOff x="1415880" y="3297240"/>
            <a:chExt cx="6094440" cy="2956680"/>
          </a:xfrm>
        </p:grpSpPr>
        <p:sp>
          <p:nvSpPr>
            <p:cNvPr id="378" name=""/>
            <p:cNvSpPr/>
            <p:nvPr/>
          </p:nvSpPr>
          <p:spPr>
            <a:xfrm>
              <a:off x="1415880" y="3297240"/>
              <a:ext cx="2598840" cy="51120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9440" y="3454560"/>
              <a:ext cx="99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波特率（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ps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5880" y="3297240"/>
              <a:ext cx="2598840" cy="511200"/>
            </a:xfrm>
            <a:custGeom>
              <a:avLst/>
              <a:gdLst/>
              <a:ahLst/>
              <a:rect l="l" t="t" r="r" b="b"/>
              <a:pathLst>
                <a:path w="4910" h="967">
                  <a:moveTo>
                    <a:pt x="0" y="967"/>
                  </a:moveTo>
                  <a:lnTo>
                    <a:pt x="4910" y="967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5880" y="3297240"/>
              <a:ext cx="1800" cy="51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14720" y="3297240"/>
              <a:ext cx="3495600" cy="51120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23480" y="345456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最大传输距离（米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4720" y="3297240"/>
              <a:ext cx="3495600" cy="511200"/>
            </a:xfrm>
            <a:custGeom>
              <a:avLst/>
              <a:gdLst/>
              <a:ahLst/>
              <a:rect l="l" t="t" r="r" b="b"/>
              <a:pathLst>
                <a:path w="6607" h="967">
                  <a:moveTo>
                    <a:pt x="0" y="967"/>
                  </a:moveTo>
                  <a:lnTo>
                    <a:pt x="6607" y="967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4720" y="3297240"/>
              <a:ext cx="1800" cy="51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5880" y="3808440"/>
              <a:ext cx="259884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23960" y="38638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24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15880" y="3808440"/>
              <a:ext cx="2598840" cy="304920"/>
            </a:xfrm>
            <a:custGeom>
              <a:avLst/>
              <a:gdLst/>
              <a:ahLst/>
              <a:rect l="l" t="t" r="r" b="b"/>
              <a:pathLst>
                <a:path w="4910" h="575">
                  <a:moveTo>
                    <a:pt x="0" y="575"/>
                  </a:moveTo>
                  <a:lnTo>
                    <a:pt x="4910" y="575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15880" y="380844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14720" y="3808440"/>
              <a:ext cx="349560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4960" y="38638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25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14720" y="3808440"/>
              <a:ext cx="3495600" cy="304920"/>
            </a:xfrm>
            <a:custGeom>
              <a:avLst/>
              <a:gdLst/>
              <a:ahLst/>
              <a:rect l="l" t="t" r="r" b="b"/>
              <a:pathLst>
                <a:path w="6607" h="575">
                  <a:moveTo>
                    <a:pt x="0" y="575"/>
                  </a:moveTo>
                  <a:lnTo>
                    <a:pt x="6607" y="575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4720" y="380844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15880" y="4113360"/>
              <a:ext cx="2598840" cy="3031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23960" y="416736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48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5880" y="4113360"/>
              <a:ext cx="2598840" cy="303120"/>
            </a:xfrm>
            <a:custGeom>
              <a:avLst/>
              <a:gdLst/>
              <a:ahLst/>
              <a:rect l="l" t="t" r="r" b="b"/>
              <a:pathLst>
                <a:path w="4910" h="574">
                  <a:moveTo>
                    <a:pt x="0" y="574"/>
                  </a:moveTo>
                  <a:lnTo>
                    <a:pt x="4910" y="574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15880" y="4113360"/>
              <a:ext cx="1800" cy="30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14720" y="4113360"/>
              <a:ext cx="3495600" cy="3031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0760" y="416736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2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14720" y="4113360"/>
              <a:ext cx="3495600" cy="303120"/>
            </a:xfrm>
            <a:custGeom>
              <a:avLst/>
              <a:gdLst/>
              <a:ahLst/>
              <a:rect l="l" t="t" r="r" b="b"/>
              <a:pathLst>
                <a:path w="6607" h="574">
                  <a:moveTo>
                    <a:pt x="0" y="574"/>
                  </a:moveTo>
                  <a:lnTo>
                    <a:pt x="6607" y="574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4720" y="4113360"/>
              <a:ext cx="1800" cy="30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15880" y="4416480"/>
              <a:ext cx="259884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23960" y="447192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96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15880" y="4416480"/>
              <a:ext cx="2598840" cy="304920"/>
            </a:xfrm>
            <a:custGeom>
              <a:avLst/>
              <a:gdLst/>
              <a:ahLst/>
              <a:rect l="l" t="t" r="r" b="b"/>
              <a:pathLst>
                <a:path w="4910" h="575">
                  <a:moveTo>
                    <a:pt x="0" y="575"/>
                  </a:moveTo>
                  <a:lnTo>
                    <a:pt x="4910" y="575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15880" y="441648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14720" y="4416480"/>
              <a:ext cx="349560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30760" y="447192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1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4720" y="4416480"/>
              <a:ext cx="3495600" cy="304920"/>
            </a:xfrm>
            <a:custGeom>
              <a:avLst/>
              <a:gdLst/>
              <a:ahLst/>
              <a:rect l="l" t="t" r="r" b="b"/>
              <a:pathLst>
                <a:path w="6607" h="575">
                  <a:moveTo>
                    <a:pt x="0" y="575"/>
                  </a:moveTo>
                  <a:lnTo>
                    <a:pt x="6607" y="575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4720" y="441648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15880" y="4721400"/>
              <a:ext cx="2598840" cy="3031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8880" y="4775040"/>
              <a:ext cx="4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9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15880" y="4721400"/>
              <a:ext cx="2598840" cy="303120"/>
            </a:xfrm>
            <a:custGeom>
              <a:avLst/>
              <a:gdLst/>
              <a:ahLst/>
              <a:rect l="l" t="t" r="r" b="b"/>
              <a:pathLst>
                <a:path w="4910" h="574">
                  <a:moveTo>
                    <a:pt x="0" y="574"/>
                  </a:moveTo>
                  <a:lnTo>
                    <a:pt x="4910" y="574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15880" y="4721400"/>
              <a:ext cx="1800" cy="30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14720" y="4721400"/>
              <a:ext cx="3495600" cy="3031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30760" y="477504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15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14720" y="4721400"/>
              <a:ext cx="3495600" cy="303120"/>
            </a:xfrm>
            <a:custGeom>
              <a:avLst/>
              <a:gdLst/>
              <a:ahLst/>
              <a:rect l="l" t="t" r="r" b="b"/>
              <a:pathLst>
                <a:path w="6607" h="574">
                  <a:moveTo>
                    <a:pt x="0" y="574"/>
                  </a:moveTo>
                  <a:lnTo>
                    <a:pt x="6607" y="574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14720" y="4721400"/>
              <a:ext cx="1800" cy="30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15880" y="5024520"/>
              <a:ext cx="2598840" cy="3045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68880" y="5079960"/>
              <a:ext cx="4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84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5880" y="5024520"/>
              <a:ext cx="2598840" cy="304560"/>
            </a:xfrm>
            <a:custGeom>
              <a:avLst/>
              <a:gdLst/>
              <a:ahLst/>
              <a:rect l="l" t="t" r="r" b="b"/>
              <a:pathLst>
                <a:path w="4910" h="575">
                  <a:moveTo>
                    <a:pt x="0" y="575"/>
                  </a:moveTo>
                  <a:lnTo>
                    <a:pt x="4910" y="575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15880" y="5024520"/>
              <a:ext cx="180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14720" y="5024520"/>
              <a:ext cx="3495600" cy="3045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87640" y="5079960"/>
              <a:ext cx="1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7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14720" y="5024520"/>
              <a:ext cx="3495600" cy="304560"/>
            </a:xfrm>
            <a:custGeom>
              <a:avLst/>
              <a:gdLst/>
              <a:ahLst/>
              <a:rect l="l" t="t" r="r" b="b"/>
              <a:pathLst>
                <a:path w="6607" h="575">
                  <a:moveTo>
                    <a:pt x="0" y="575"/>
                  </a:moveTo>
                  <a:lnTo>
                    <a:pt x="6607" y="575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14720" y="5024520"/>
              <a:ext cx="180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15880" y="5329080"/>
              <a:ext cx="2598840" cy="30348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68880" y="5384880"/>
              <a:ext cx="4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56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15880" y="5329080"/>
              <a:ext cx="2598840" cy="303480"/>
            </a:xfrm>
            <a:custGeom>
              <a:avLst/>
              <a:gdLst/>
              <a:ahLst/>
              <a:rect l="l" t="t" r="r" b="b"/>
              <a:pathLst>
                <a:path w="4910" h="574">
                  <a:moveTo>
                    <a:pt x="0" y="574"/>
                  </a:moveTo>
                  <a:lnTo>
                    <a:pt x="4910" y="574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15880" y="5329080"/>
              <a:ext cx="18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14720" y="5329080"/>
              <a:ext cx="3495600" cy="30348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87640" y="5384880"/>
              <a:ext cx="1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14720" y="5329080"/>
              <a:ext cx="3495600" cy="303480"/>
            </a:xfrm>
            <a:custGeom>
              <a:avLst/>
              <a:gdLst/>
              <a:ahLst/>
              <a:rect l="l" t="t" r="r" b="b"/>
              <a:pathLst>
                <a:path w="6607" h="574">
                  <a:moveTo>
                    <a:pt x="0" y="574"/>
                  </a:moveTo>
                  <a:lnTo>
                    <a:pt x="6607" y="574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14720" y="5329080"/>
              <a:ext cx="18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15880" y="5632560"/>
              <a:ext cx="2598840" cy="3045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8880" y="5688000"/>
              <a:ext cx="4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64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15880" y="5632560"/>
              <a:ext cx="2598840" cy="304560"/>
            </a:xfrm>
            <a:custGeom>
              <a:avLst/>
              <a:gdLst/>
              <a:ahLst/>
              <a:rect l="l" t="t" r="r" b="b"/>
              <a:pathLst>
                <a:path w="4910" h="575">
                  <a:moveTo>
                    <a:pt x="0" y="575"/>
                  </a:moveTo>
                  <a:lnTo>
                    <a:pt x="4910" y="575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15880" y="5632560"/>
              <a:ext cx="180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4720" y="5632560"/>
              <a:ext cx="3495600" cy="30456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640" y="5688000"/>
              <a:ext cx="1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5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14720" y="5632560"/>
              <a:ext cx="3495600" cy="304560"/>
            </a:xfrm>
            <a:custGeom>
              <a:avLst/>
              <a:gdLst/>
              <a:ahLst/>
              <a:rect l="l" t="t" r="r" b="b"/>
              <a:pathLst>
                <a:path w="6607" h="575">
                  <a:moveTo>
                    <a:pt x="0" y="575"/>
                  </a:moveTo>
                  <a:lnTo>
                    <a:pt x="6607" y="575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14720" y="5632560"/>
              <a:ext cx="180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15880" y="5937120"/>
              <a:ext cx="259884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58000" y="5994360"/>
              <a:ext cx="694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2048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15880" y="5937120"/>
              <a:ext cx="2598840" cy="304920"/>
            </a:xfrm>
            <a:custGeom>
              <a:avLst/>
              <a:gdLst/>
              <a:ahLst/>
              <a:rect l="l" t="t" r="r" b="b"/>
              <a:pathLst>
                <a:path w="4910" h="576">
                  <a:moveTo>
                    <a:pt x="0" y="576"/>
                  </a:moveTo>
                  <a:lnTo>
                    <a:pt x="4910" y="576"/>
                  </a:lnTo>
                  <a:lnTo>
                    <a:pt x="4910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15880" y="593712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14720" y="5937120"/>
              <a:ext cx="3495600" cy="304920"/>
            </a:xfrm>
            <a:prstGeom prst="rect">
              <a:avLst/>
            </a:prstGeom>
            <a:solidFill>
              <a:srgbClr val="f0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87640" y="5994360"/>
              <a:ext cx="1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 Narrow"/>
                  <a:ea typeface="黑体"/>
                </a:rPr>
                <a:t>3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4720" y="5937120"/>
              <a:ext cx="3495600" cy="304920"/>
            </a:xfrm>
            <a:custGeom>
              <a:avLst/>
              <a:gdLst/>
              <a:ahLst/>
              <a:rect l="l" t="t" r="r" b="b"/>
              <a:pathLst>
                <a:path w="6607" h="576">
                  <a:moveTo>
                    <a:pt x="0" y="576"/>
                  </a:moveTo>
                  <a:lnTo>
                    <a:pt x="6607" y="576"/>
                  </a:lnTo>
                  <a:lnTo>
                    <a:pt x="660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4720" y="5937120"/>
              <a:ext cx="1800" cy="30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培训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5184720" cy="34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完本章内容，您应该能够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了解一般的网络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见局域网接口类型和基本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见广域网接口类型和基本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见的光接口类型和基本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5880" y="2743200"/>
            <a:ext cx="2438280" cy="3200040"/>
            <a:chOff x="6095880" y="2743200"/>
            <a:chExt cx="2438280" cy="3200040"/>
          </a:xfrm>
        </p:grpSpPr>
        <p:sp>
          <p:nvSpPr>
            <p:cNvPr id="98" name=""/>
            <p:cNvSpPr/>
            <p:nvPr/>
          </p:nvSpPr>
          <p:spPr>
            <a:xfrm>
              <a:off x="6882120" y="28630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29800" y="44823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6640" y="44920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92480" y="27529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10120" y="43722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2120" y="30117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5880" y="35024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9720" y="41576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5440" y="35766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25840" y="40572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0400" y="28551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1240" y="28731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1280" y="39452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66240" y="27806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61800" y="40014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82880" y="48988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08080" y="48330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33320" y="30294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58640" y="39175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01520" y="31698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5880" y="31597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3880" y="31957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07080" y="45745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29800" y="49536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91560" y="50652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1520" y="28170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49320" y="27432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0160" y="27990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45160" y="29012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2520" y="29372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8880" y="29095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55880" y="29372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93600" y="28911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8800" y="30294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6160" y="30675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63800" y="31417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0800" y="31316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0160" y="30855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8880" y="31780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5320" y="29293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59680" y="29372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1960" y="29095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2960" y="29934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70400" y="30013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43040" y="30117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2400" y="29754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3040" y="31132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95600" y="31878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3600" y="32155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2880" y="31957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5880" y="32338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83880" y="32058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9600" y="31417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12240" y="32238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84880" y="34282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2360" y="32698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31698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40000" y="32518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7000" y="35384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0560" y="39175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07080" y="38250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46160" y="36968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3600" y="35845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4600" y="37227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81120" y="38250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59680" y="40294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76280" y="39834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58640" y="40374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06080" y="39913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3720" y="39632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8640" y="39834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19560" y="40572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5280" y="40935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1680" y="40572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7040" y="40935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1240" y="39733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33320" y="41115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2200" y="43981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99760" y="44082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67600" y="44823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3080" y="41677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9360" y="41396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52080" y="41576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2520" y="45464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88760" y="41860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97360" y="45925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47920" y="45925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1800" y="46306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73160" y="48330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4720" y="48610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7920" y="44823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8920" y="45745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39600" y="45003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49960" y="45644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19560" y="48790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9680" y="49352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8360" y="49636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64840" y="45745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5440" y="35481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0280" y="34923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10120" y="35845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5440" y="37710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43760" y="39733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49040" y="40474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35560" y="42778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88040" y="29192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55880" y="32155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5040" y="28454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9600" y="28551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49960" y="28731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59680" y="28911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49320" y="28630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20560" y="40572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85000" y="40474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01800" y="49251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36560" y="50734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60400" y="50277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SDN B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6899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RI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B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口  使用两芯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J-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J-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/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口 使用四芯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J-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uidway 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路由器上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1/P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形式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187280" y="3789360"/>
          <a:ext cx="648036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89360"/>
                    <a:ext cx="6480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E1/PR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76124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头的连接器用于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欧姆非平衡同轴电缆的网络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J-4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晶头的电缆用于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欧平衡屏蔽双绞线的网络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187280" y="2421000"/>
          <a:ext cx="734544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21000"/>
                    <a:ext cx="73454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1258920" y="4888080"/>
          <a:ext cx="756288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888080"/>
                    <a:ext cx="75628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光纤通信系统的基本构成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源是光波产生的根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纤是传输光波的导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发送机的功能是产生光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电信号转变成光信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把光信号导入光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接收机的功能负责接收从光纤上传输的光信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将它转变成电信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解码后再作相应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39640" y="4149720"/>
          <a:ext cx="806472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49720"/>
                    <a:ext cx="80647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3627360" y="581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黑体"/>
              </a:rPr>
              <a:t>光纤通信系统基本构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光纤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899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纤中心是光传播的玻璃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芯外面包围着一层折射率比芯低的玻璃封套，以使光纤保持在芯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外面的是一层薄的塑料外套，用来保护封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3649680"/>
            <a:ext cx="3132360" cy="457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4094280"/>
            <a:ext cx="3132360" cy="457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4538520"/>
            <a:ext cx="3132360" cy="457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30280" y="3909960"/>
            <a:ext cx="1170000" cy="758880"/>
          </a:xfrm>
          <a:custGeom>
            <a:avLst/>
            <a:gdLst/>
            <a:ahLst/>
            <a:rect l="l" t="t" r="r" b="b"/>
            <a:pathLst>
              <a:path w="1472" h="954">
                <a:moveTo>
                  <a:pt x="934" y="954"/>
                </a:moveTo>
                <a:lnTo>
                  <a:pt x="934" y="767"/>
                </a:lnTo>
                <a:lnTo>
                  <a:pt x="2" y="765"/>
                </a:lnTo>
                <a:lnTo>
                  <a:pt x="0" y="213"/>
                </a:lnTo>
                <a:lnTo>
                  <a:pt x="928" y="214"/>
                </a:lnTo>
                <a:lnTo>
                  <a:pt x="927" y="0"/>
                </a:lnTo>
                <a:lnTo>
                  <a:pt x="1472" y="479"/>
                </a:lnTo>
                <a:lnTo>
                  <a:pt x="934" y="95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24760" y="421488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黑体"/>
              </a:rPr>
              <a:t>光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27480" y="380844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黑体"/>
              </a:rPr>
              <a:t>保护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37840" y="426420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黑体"/>
              </a:rPr>
              <a:t>核心线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87880" y="471024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54880" y="519120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  <a:ea typeface="黑体"/>
              </a:rPr>
              <a:t>光线结构示意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光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缆是数据传输中最有效的一种传输介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它有以下几个优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频带较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绝缘性能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衰减较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继器的间隔较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见光纤接头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39640" y="1557360"/>
          <a:ext cx="374508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745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572000" y="1557360"/>
          <a:ext cx="3960720" cy="13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57360"/>
                    <a:ext cx="39607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11280" y="4076640"/>
          <a:ext cx="367344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076640"/>
                    <a:ext cx="3673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643280" y="4076640"/>
          <a:ext cx="388944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4076640"/>
                    <a:ext cx="3889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82880" y="3141720"/>
            <a:ext cx="20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尾纤接头外形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7960" y="3141720"/>
            <a:ext cx="20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尾纤接头外形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72880" y="549288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T-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尾纤接头外形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21600" y="5492880"/>
            <a:ext cx="24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C/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C/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尾纤外形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见光接口连接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914400" y="1790640"/>
          <a:ext cx="3619440" cy="38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90640"/>
                    <a:ext cx="3619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686480" y="1692360"/>
          <a:ext cx="3619440" cy="57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1692360"/>
                    <a:ext cx="36194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700360" y="3141720"/>
          <a:ext cx="4172040" cy="654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3141720"/>
                    <a:ext cx="41720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684360" y="4724280"/>
          <a:ext cx="3816360" cy="706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724280"/>
                    <a:ext cx="381636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2000" y="4437000"/>
          <a:ext cx="4103640" cy="1081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37000"/>
                    <a:ext cx="4103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1897920" y="239724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C/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连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15080" y="2468520"/>
            <a:ext cx="10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连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22160" y="3978360"/>
            <a:ext cx="143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C/P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连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77760" y="570852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BNC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连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35520" y="5634000"/>
            <a:ext cx="14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MTRJ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光连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见局域网中使用的电缆：双绞线、光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种种类双绞线和光纤的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步串口和异步串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.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.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缆的物理特性和传输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DN B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1/PR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的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光纤及光接口的特性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92360" y="1773360"/>
            <a:ext cx="4267080" cy="1498320"/>
            <a:chOff x="3492360" y="1773360"/>
            <a:chExt cx="4267080" cy="1498320"/>
          </a:xfrm>
        </p:grpSpPr>
        <p:sp>
          <p:nvSpPr>
            <p:cNvPr id="218" name=""/>
            <p:cNvSpPr/>
            <p:nvPr/>
          </p:nvSpPr>
          <p:spPr>
            <a:xfrm>
              <a:off x="3543120" y="24206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55720" y="32716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52680" y="1773360"/>
              <a:ext cx="248292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LAN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接口与线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二章  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WAN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接口与线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3492360" y="2001600"/>
              <a:ext cx="31104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492360" y="2839680"/>
              <a:ext cx="2970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见局域网类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39152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令牌总线网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ken Bu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令牌环网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ken Rin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的类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（标准以太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（快速以太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（千兆以太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0M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以太网接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Base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前使用最广泛的局域网标准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双绞线作为物理传输介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Bas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曾经广泛应用于主干局域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粗同轴电缆作为物理传输介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Bas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细同轴电缆作为物理传输介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0Base-T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物理介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双绞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双绞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双绞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双绞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双绞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5440" y="437184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993300"/>
                </a:solidFill>
                <a:latin typeface="Times New Roman"/>
                <a:ea typeface="黑体"/>
              </a:rPr>
              <a:t>有屏蔽与非屏蔽之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993300"/>
                </a:solidFill>
                <a:latin typeface="Times New Roman"/>
                <a:ea typeface="黑体"/>
              </a:rPr>
              <a:t>均为</a:t>
            </a:r>
            <a:r>
              <a:rPr b="1" i="1" lang="zh-CN" sz="2000" spc="-1" strike="noStrike">
                <a:solidFill>
                  <a:srgbClr val="993300"/>
                </a:solidFill>
                <a:latin typeface="Times New Roman"/>
                <a:ea typeface="黑体"/>
              </a:rPr>
              <a:t>8</a:t>
            </a:r>
            <a:r>
              <a:rPr b="1" i="1" lang="zh-CN" sz="2000" spc="-1" strike="noStrike">
                <a:solidFill>
                  <a:srgbClr val="993300"/>
                </a:solidFill>
                <a:latin typeface="Times New Roman"/>
                <a:ea typeface="黑体"/>
              </a:rPr>
              <a:t>芯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993300"/>
                </a:solidFill>
                <a:latin typeface="Times New Roman"/>
                <a:ea typeface="黑体"/>
              </a:rPr>
              <a:t>双绞线的类型由单位长度内的绞环数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类双绞线的线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19440" cy="27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连网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叉网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42920" y="2060640"/>
          <a:ext cx="252108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252108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138920" y="1341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38920" y="3500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7640" y="1341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68720" y="1916280"/>
            <a:ext cx="0" cy="13683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1916280"/>
            <a:ext cx="0" cy="13683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5080" y="1916280"/>
            <a:ext cx="0" cy="13683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32360" y="1916280"/>
            <a:ext cx="0" cy="13683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13080" y="191628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1916280"/>
            <a:ext cx="0" cy="1368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1916280"/>
            <a:ext cx="0" cy="1368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1916280"/>
            <a:ext cx="0" cy="136836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2560" y="321300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  <a:ea typeface="黑体"/>
              </a:rPr>
              <a:t>1234567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2560" y="155736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  <a:ea typeface="黑体"/>
              </a:rPr>
              <a:t>1234567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72640" y="1773360"/>
            <a:ext cx="84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3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4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5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6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7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8920" y="1341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4365720"/>
            <a:ext cx="0" cy="6476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5013360"/>
            <a:ext cx="288720" cy="4316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56000" y="5445000"/>
            <a:ext cx="0" cy="2160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4365720"/>
            <a:ext cx="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4581360"/>
            <a:ext cx="576360" cy="863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44500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4365720"/>
            <a:ext cx="0" cy="6476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067280" y="5013360"/>
            <a:ext cx="288720" cy="4316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5445000"/>
            <a:ext cx="0" cy="2160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8920" y="436572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4365720"/>
            <a:ext cx="0" cy="129528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4365720"/>
            <a:ext cx="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11280" y="4581360"/>
            <a:ext cx="576360" cy="86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4365720"/>
            <a:ext cx="0" cy="129528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75280" y="4365720"/>
            <a:ext cx="0" cy="12952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50560" y="3789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1840" y="3789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38920" y="3789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38920" y="5877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c4ff"/>
                </a:solidFill>
                <a:latin typeface="Times New Roman"/>
                <a:ea typeface="黑体"/>
              </a:rPr>
              <a:t>S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22560" y="400536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  <a:ea typeface="黑体"/>
              </a:rPr>
              <a:t>1234567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2560" y="558972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  <a:ea typeface="黑体"/>
              </a:rPr>
              <a:t>1234567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8280" y="1773360"/>
            <a:ext cx="84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3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4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5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6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7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2640" y="4149720"/>
            <a:ext cx="84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3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4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5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6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7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28280" y="4221000"/>
            <a:ext cx="84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3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4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5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6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7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设备连接方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00000" y="1268280"/>
          <a:ext cx="7689960" cy="4745160"/>
        </p:xfrm>
        <a:graphic>
          <a:graphicData uri="http://schemas.openxmlformats.org/drawingml/2006/table">
            <a:tbl>
              <a:tblPr/>
              <a:tblGrid>
                <a:gridCol w="1136880"/>
                <a:gridCol w="936360"/>
                <a:gridCol w="936720"/>
                <a:gridCol w="1670040"/>
                <a:gridCol w="1584360"/>
                <a:gridCol w="142560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主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路由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交换机普通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交换机级连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交换机光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主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/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路由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/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交换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普通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交换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级连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交换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光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/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/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/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03:56:43Z</dcterms:created>
  <dc:creator>wangyanglin</dc:creator>
  <dc:description/>
  <dc:language>en-US</dc:language>
  <cp:lastModifiedBy>软件仓库</cp:lastModifiedBy>
  <cp:lastPrinted>2002-07-29T06:08:49Z</cp:lastPrinted>
  <dcterms:modified xsi:type="dcterms:W3CDTF">2005-05-17T04:16:56Z</dcterms:modified>
  <cp:revision>25</cp:revision>
  <dc:subject/>
  <dc:title>DN 03</dc:title>
</cp:coreProperties>
</file>